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2280" cy="460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965040" y="-360"/>
            <a:ext cx="3032280" cy="460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95200" y="69228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931680" y="4379400"/>
            <a:ext cx="5133960" cy="4224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836200"/>
            <a:ext cx="3032280" cy="4600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965040" y="8836200"/>
            <a:ext cx="3032280" cy="4600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F5DBE3-CC8C-4335-8C8F-B2AEBE330A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965400" y="8836200"/>
            <a:ext cx="30322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B228C8-57D0-47AB-8969-C49738C03E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92320" y="693720"/>
            <a:ext cx="4614840" cy="346068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33480" y="4392360"/>
            <a:ext cx="513072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2160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2160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2160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732F-4595-4173-8284-7C8B296BD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2160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BDA4-4DDA-426F-BE3C-5CF94B8E4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2160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86CF-DDF8-4A72-A56D-8CE8C35D2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2160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295E-A182-45BE-A5AD-48449EE47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2160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3BDD-ACC9-4C2F-9B6E-3435979B8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-216000" y="198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A345-2419-47CD-8665-3C26BDF9F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2160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E179-8EC0-4937-B179-411A8164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2160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2160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FD5E-474E-4D84-A447-57C88527B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2160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1096-44F2-4D87-AED3-4354359A6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2160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CBEF-4052-4503-9756-B9C34F11D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2160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D40C-6A66-4E32-902C-3D505A857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2160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385F-B197-4E45-A22C-8C2BF4759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2160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2160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2160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-216000" y="198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2160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-2160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2160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1143000"/>
            <a:ext cx="9144000" cy="936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6362640"/>
            <a:ext cx="9144000" cy="79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372960" y="1652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142920" y="193680"/>
            <a:ext cx="77724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7232760" y="263520"/>
            <a:ext cx="1715760" cy="390240"/>
            <a:chOff x="7232760" y="263520"/>
            <a:chExt cx="1715760" cy="390240"/>
          </a:xfrm>
        </p:grpSpPr>
        <p:sp>
          <p:nvSpPr>
            <p:cNvPr id="7" name="Freeform 9"/>
            <p:cNvSpPr/>
            <p:nvPr/>
          </p:nvSpPr>
          <p:spPr>
            <a:xfrm>
              <a:off x="7701120" y="360360"/>
              <a:ext cx="179280" cy="222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8772840" y="371160"/>
              <a:ext cx="80640" cy="211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8836200" y="371160"/>
              <a:ext cx="112320" cy="211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8207640" y="371160"/>
              <a:ext cx="235080" cy="211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031240" y="360360"/>
              <a:ext cx="179280" cy="222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8418600" y="360360"/>
              <a:ext cx="179280" cy="222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884000" y="371160"/>
              <a:ext cx="166320" cy="211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8601120" y="371160"/>
              <a:ext cx="164880" cy="211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7232760" y="371160"/>
              <a:ext cx="495000" cy="282600"/>
            </a:xfrm>
            <a:prstGeom prst="pie">
              <a:avLst/>
            </a:prstGeom>
            <a:solidFill>
              <a:srgbClr val="fd0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7512120" y="263520"/>
              <a:ext cx="69480" cy="90000"/>
            </a:xfrm>
            <a:prstGeom prst="pie">
              <a:avLst/>
            </a:prstGeom>
            <a:solidFill>
              <a:srgbClr val="fd0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7513200" y="627120"/>
              <a:ext cx="23760" cy="26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" name="Text Box 20"/>
          <p:cNvSpPr/>
          <p:nvPr/>
        </p:nvSpPr>
        <p:spPr>
          <a:xfrm>
            <a:off x="7145280" y="689040"/>
            <a:ext cx="1892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00"/>
                </a:solidFill>
                <a:latin typeface="Arial"/>
              </a:rPr>
              <a:t>Aramark Uniform and Career Appar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Text Box 22"/>
          <p:cNvSpPr/>
          <p:nvPr/>
        </p:nvSpPr>
        <p:spPr>
          <a:xfrm>
            <a:off x="8630280" y="6172200"/>
            <a:ext cx="70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46CAC-D943-4598-B2E8-7BBF5D54DDA8}" type="slidenum">
              <a:rPr b="0" lang="en-US" sz="900" spc="-1" strike="noStrike">
                <a:solidFill>
                  <a:srgbClr val="3333cc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5"/>
          <p:cNvGrpSpPr/>
          <p:nvPr/>
        </p:nvGrpSpPr>
        <p:grpSpPr>
          <a:xfrm>
            <a:off x="-202680" y="0"/>
            <a:ext cx="9346680" cy="1523520"/>
            <a:chOff x="-202680" y="0"/>
            <a:chExt cx="9346680" cy="1523520"/>
          </a:xfrm>
        </p:grpSpPr>
        <p:pic>
          <p:nvPicPr>
            <p:cNvPr id="57" name="Picture 6" descr="cool2"/>
            <p:cNvPicPr/>
            <p:nvPr/>
          </p:nvPicPr>
          <p:blipFill>
            <a:blip r:embed="rId2"/>
            <a:stretch/>
          </p:blipFill>
          <p:spPr>
            <a:xfrm rot="5400000">
              <a:off x="3708720" y="-3911400"/>
              <a:ext cx="1523520" cy="934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Line 7"/>
            <p:cNvSpPr/>
            <p:nvPr/>
          </p:nvSpPr>
          <p:spPr>
            <a:xfrm flipH="1">
              <a:off x="-202680" y="1523520"/>
              <a:ext cx="9346680" cy="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2160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1398C-338F-488F-808E-58C7EA7F883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7873920" y="444600"/>
            <a:ext cx="9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Engravers MT"/>
              </a:rPr>
              <a:t>1 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8024040" y="406440"/>
            <a:ext cx="66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ivaldi"/>
              </a:rPr>
              <a:t>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8"/>
          <p:cNvSpPr/>
          <p:nvPr/>
        </p:nvSpPr>
        <p:spPr>
          <a:xfrm>
            <a:off x="7696080" y="165240"/>
            <a:ext cx="1244880" cy="1244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2"/>
          <p:cNvSpPr/>
          <p:nvPr/>
        </p:nvSpPr>
        <p:spPr>
          <a:xfrm>
            <a:off x="1392120" y="0"/>
            <a:ext cx="77518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2"/>
          <p:cNvSpPr/>
          <p:nvPr/>
        </p:nvSpPr>
        <p:spPr>
          <a:xfrm>
            <a:off x="2514600" y="4000680"/>
            <a:ext cx="5753160" cy="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1636560" y="469800"/>
            <a:ext cx="7329600" cy="80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Futura Md BT"/>
              </a:rPr>
              <a:t>One to One Laptop Initia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Calibri"/>
              </a:rPr>
              <a:t>Rye Junior High Sch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Calibri"/>
              </a:rPr>
              <a:t>Rye, 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Calibri"/>
              </a:rPr>
              <a:t>School Board Brief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Calibri"/>
              </a:rPr>
              <a:t>June 11, 20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Futura Md BT"/>
              </a:rPr>
              <a:t>Sheila Adams</a:t>
            </a:r>
            <a:r>
              <a:rPr b="1" lang="en-US" sz="2000" spc="-1" strike="noStrike">
                <a:solidFill>
                  <a:srgbClr val="808080"/>
                </a:solidFill>
                <a:latin typeface="Futura Md BT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Futura Md BT"/>
              </a:rPr>
              <a:t>	</a:t>
            </a:r>
            <a:r>
              <a:rPr b="1" lang="fr-FR" sz="2000" spc="-1" strike="noStrike">
                <a:solidFill>
                  <a:srgbClr val="808080"/>
                </a:solidFill>
                <a:latin typeface="Futura Md BT"/>
              </a:rPr>
              <a:t>sadams@sau50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Futura Md BT"/>
              </a:rPr>
              <a:t>Chris Pollet</a:t>
            </a:r>
            <a:r>
              <a:rPr b="1" lang="en-US" sz="2000" spc="-1" strike="noStrike">
                <a:solidFill>
                  <a:srgbClr val="808080"/>
                </a:solidFill>
                <a:latin typeface="Futura Md BT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Futura Md BT"/>
              </a:rPr>
              <a:t>	</a:t>
            </a:r>
            <a:r>
              <a:rPr b="1" lang="fr-FR" sz="2000" spc="-1" strike="noStrike">
                <a:solidFill>
                  <a:srgbClr val="808080"/>
                </a:solidFill>
                <a:latin typeface="Futura Md BT"/>
              </a:rPr>
              <a:t>cpollet@sau50.org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Futura Md BT"/>
              </a:rPr>
              <a:t>Chris Lingamfelter</a:t>
            </a:r>
            <a:r>
              <a:rPr b="1" lang="en-US" sz="2000" spc="-1" strike="noStrike">
                <a:solidFill>
                  <a:srgbClr val="808080"/>
                </a:solidFill>
                <a:latin typeface="Futura Md BT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Futura Md BT"/>
              </a:rPr>
              <a:t>clingamfelter@manh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Futura Md BT"/>
              </a:rPr>
              <a:t>Tim Moynahan</a:t>
            </a:r>
            <a:r>
              <a:rPr b="1" lang="en-US" sz="2000" spc="-1" strike="noStrike">
                <a:solidFill>
                  <a:srgbClr val="808080"/>
                </a:solidFill>
                <a:latin typeface="Futura Md BT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Futura Md BT"/>
              </a:rPr>
              <a:t>	</a:t>
            </a:r>
            <a:r>
              <a:rPr b="1" lang="fr-FR" sz="2000" spc="-1" strike="noStrike">
                <a:solidFill>
                  <a:srgbClr val="808080"/>
                </a:solidFill>
                <a:latin typeface="Futura Md BT"/>
              </a:rPr>
              <a:t>tmoynahan@sau50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Futura Md BT"/>
              </a:rPr>
              <a:t>Mike Schwartz</a:t>
            </a:r>
            <a:r>
              <a:rPr b="1" lang="en-US" sz="2000" spc="-1" strike="noStrike">
                <a:solidFill>
                  <a:srgbClr val="808080"/>
                </a:solidFill>
                <a:latin typeface="Futura Md BT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Futura Md BT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Futura Md BT"/>
              </a:rPr>
              <a:t>michaelschwartz@usa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Futura Md BT"/>
              </a:rPr>
              <a:t>Suzanne Vogt</a:t>
            </a:r>
            <a:r>
              <a:rPr b="1" lang="fr-FR" sz="2000" spc="-1" strike="noStrike">
                <a:solidFill>
                  <a:srgbClr val="808080"/>
                </a:solidFill>
                <a:latin typeface="Futura Md BT"/>
              </a:rPr>
              <a:t>	</a:t>
            </a:r>
            <a:r>
              <a:rPr b="1" lang="fr-FR" sz="2000" spc="-1" strike="noStrike">
                <a:solidFill>
                  <a:srgbClr val="808080"/>
                </a:solidFill>
                <a:latin typeface="Futura Md BT"/>
              </a:rPr>
              <a:t>	</a:t>
            </a:r>
            <a:r>
              <a:rPr b="1" lang="fr-FR" sz="2000" spc="-1" strike="noStrike">
                <a:solidFill>
                  <a:srgbClr val="808080"/>
                </a:solidFill>
                <a:latin typeface="Futura Md BT"/>
              </a:rPr>
              <a:t>sumarc@comcast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5"/>
          <p:cNvGrpSpPr/>
          <p:nvPr/>
        </p:nvGrpSpPr>
        <p:grpSpPr>
          <a:xfrm>
            <a:off x="0" y="0"/>
            <a:ext cx="1371600" cy="6858000"/>
            <a:chOff x="0" y="0"/>
            <a:chExt cx="1371600" cy="6858000"/>
          </a:xfrm>
        </p:grpSpPr>
        <p:pic>
          <p:nvPicPr>
            <p:cNvPr id="114" name="Picture 6" descr="cool2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3716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Line 7"/>
            <p:cNvSpPr/>
            <p:nvPr/>
          </p:nvSpPr>
          <p:spPr>
            <a:xfrm>
              <a:off x="1371600" y="0"/>
              <a:ext cx="0" cy="685800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TextBox 24"/>
          <p:cNvSpPr/>
          <p:nvPr/>
        </p:nvSpPr>
        <p:spPr>
          <a:xfrm>
            <a:off x="215640" y="584280"/>
            <a:ext cx="9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Engravers MT"/>
              </a:rPr>
              <a:t>1 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25"/>
          <p:cNvSpPr/>
          <p:nvPr/>
        </p:nvSpPr>
        <p:spPr>
          <a:xfrm>
            <a:off x="349920" y="546120"/>
            <a:ext cx="66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ivaldi"/>
              </a:rPr>
              <a:t>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26"/>
          <p:cNvSpPr/>
          <p:nvPr/>
        </p:nvSpPr>
        <p:spPr>
          <a:xfrm>
            <a:off x="38160" y="304920"/>
            <a:ext cx="1244520" cy="1244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Calibri"/>
              </a:rPr>
              <a:t>History of Laptop Initia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ubtitle 2"/>
          <p:cNvSpPr/>
          <p:nvPr/>
        </p:nvSpPr>
        <p:spPr>
          <a:xfrm>
            <a:off x="360360" y="1676520"/>
            <a:ext cx="8572680" cy="48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Inspired by Maine Laptop 7th Grad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Students and Parents feel Technology Weak at RJ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Started December,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Solicited parent and teacher invol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Augmented with staff and Princip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Conducted Research: web and in per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Attended Con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Phone Intervie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Matt Woodrow, Armand R. Dupont School in Allenstown, NH This is one of the Governor Benson Laptop Schools.  This is a very strong program and our notes are attach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Linda Volt, Paul Elementary School in Sanbornville, NH This is one of the Governor Benson Laptop Schools.  This is a struggling program and we learned a lot from their misstep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Calibri"/>
              </a:rPr>
              <a:t>One to One Vision</a:t>
            </a:r>
            <a:br>
              <a:rPr sz="4400"/>
            </a:br>
            <a:r>
              <a:rPr b="0" lang="en-US" sz="4400" spc="-1" strike="noStrike">
                <a:solidFill>
                  <a:srgbClr val="003399"/>
                </a:solidFill>
                <a:latin typeface="Calibri"/>
              </a:rPr>
              <a:t>Enhance Student Lear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343080" y="1600200"/>
            <a:ext cx="8572320" cy="48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Higher Order of Thinking Skil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Maximize Student Potenti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Extension of Lesson / School Da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New Teaching Methods / Teachers as Facilit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Extending Collabor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Writing (Draft/Redraft, Grammar) and Communic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Reading Comprehension Can be Improv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Mathematic Skil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Science Skil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Social Studies Skil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Technology Skil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Follow the Child Indic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Life Long Leadership Skil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13"/>
          <p:cNvSpPr/>
          <p:nvPr/>
        </p:nvSpPr>
        <p:spPr>
          <a:xfrm>
            <a:off x="8155080" y="3524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2160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gnet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day in the life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nday night pan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necting with pe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cess to tools and re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nday morning Math – graphing too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cial Studies – primary source docu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t Class – portfolio reflection and evalu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2160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Calibri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54160" y="1599840"/>
            <a:ext cx="8635680" cy="50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Students are more engaged in this type of learning… more excited about the curriculu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Successful programs focus on teacher adoption and curriculum integration (professional development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Need for both technology and curriculum integr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Hardware is only one compon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Challenges: technical aspects of support, infrastructure, and network capac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Initially, there are usually a number of unplanned costs, but that tapered off as they progress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393840" y="1695600"/>
            <a:ext cx="10756800" cy="67230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6"/>
          <p:cNvSpPr/>
          <p:nvPr/>
        </p:nvSpPr>
        <p:spPr>
          <a:xfrm>
            <a:off x="1867680" y="398520"/>
            <a:ext cx="536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Calibri"/>
              </a:rPr>
              <a:t>rjhone.wikispaces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2160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Calibri"/>
              </a:rPr>
              <a:t>Proposed Next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20680" y="18716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Determine what a RJH One-to-One would look lik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Develop budget proposal for ‘09-10 school ye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Refine professional development approa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Recommend roll-out strate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Board Reaction / Sugges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5T13:54:32Z</dcterms:created>
  <dc:creator>Dan Avila</dc:creator>
  <dc:description/>
  <dc:language>en-US</dc:language>
  <cp:lastModifiedBy>cpollet</cp:lastModifiedBy>
  <cp:lastPrinted>2008-05-29T13:58:27Z</cp:lastPrinted>
  <dcterms:modified xsi:type="dcterms:W3CDTF">2008-06-11T21:46:44Z</dcterms:modified>
  <cp:revision>1147</cp:revision>
  <dc:subject>WCDC Final Briefing Packet</dc:subject>
  <dc:title>No Slide Title</dc:title>
</cp:coreProperties>
</file>